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681-1A96-48AA-AB52-D57CC873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F62-2FC6-4BA5-BDC9-8B8C91F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51DDD-F217-45FF-87BD-E90B6ED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DBB9-98F7-4F30-A2C5-484EA13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3756-2BFB-434D-B17A-1FBA8C2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00593-FB70-401E-AB68-952BC07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8CC4-8BED-4505-9324-7030481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5F35-CD2B-4121-92FE-841AC9A2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7EF60-BC96-4860-BDBB-1A564C82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88F6F-8BAD-444C-984B-523ECBC3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342B2-3758-4DC7-B9BC-2A7C0354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F3C4A-7516-4692-ACB6-AFA874CE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940-8230-4CCF-AB38-8E391787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C015A-ABC0-4F39-8A29-3DC9B17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88C82-DD9A-4E60-90EE-9E791DD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786A3-790D-466F-8A52-3D827F12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1E1CF-CC79-401F-BFF4-E19BAFDD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EA71-91B6-42A5-B1D9-D891B308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63611-7732-47D1-9EF2-CFCC9B9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EC354-31FD-4FF9-9D22-175586D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305AF-89BB-429D-89C3-4AEB426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D5CE-DF17-4B82-832A-534D8A85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FCF9F-F701-4807-B37B-8DCD5589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2C-0C4C-4A47-9A42-1B23C679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D5DA5-2078-461A-88C2-D74E3204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C58-B316-42BD-91C8-A7FFAE60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BDB-F092-4227-A015-1CA273E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DCBF-4D2F-41EF-9E0A-2F28C87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90C-724D-4048-BE4B-F635BBE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C561-D117-47E1-B365-6443040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29CD-A8F6-45B8-A87B-49F47AD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AF80-D399-4E56-90F5-A10BF5C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093-DC0A-4BA5-94DA-2DCD262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3270-D0DE-4867-92D1-80E232C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39E-5355-4BAE-9BCD-BD04DBB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404E-FEF0-4B4A-B8C7-6D03A23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D747-1F79-43F5-B8D9-2355B4B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97F0-114C-4672-B649-8B715823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28E9-0E2D-46D3-BA87-6BC697DE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E040-0BF8-4CD0-8E13-9D2A638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19B7-655E-4CB0-A860-838B9BF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CFF8-1B05-4B07-A88E-82683DD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FC45-04C7-4441-85A4-F851E0D0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634-B6AE-4770-B6E1-D2EF88C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2609-759B-439E-88BF-C230F57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AF25-8B77-4556-B00D-A6EB8B1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E5A3-367C-455F-9F9F-6616FF5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6F4C-F117-486D-AC8E-7A68E27E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3534-00B4-432B-929A-5EEFDA2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FD6F-A52D-4797-9FFF-2514FB4E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6214-69A4-40E8-8424-D01B96DF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F14A-2BE0-42C1-975D-96176B86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26AD-33D3-48D7-860E-3488DC13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2B21-91CE-4721-AAD3-FCC87C3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B5B-AC45-434F-A8E4-513A0B70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E940-E439-419E-B1DE-059F8AB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A41E-4CC4-44F9-B050-3D0CDED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A1406-933E-4E5D-8B73-060072D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4999-40A2-43CE-9C51-1A90F88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38AA-A66B-4063-9AB8-750F407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5DA8-6C3A-4CF1-B1B5-CDC8E32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E3B9-270F-4560-BCC6-809749D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605C-3326-40DB-8095-64EA7149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5465-A21C-47F5-B8DE-6F6075E4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1BEF-F04D-44BA-B50A-AF27C70D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EDD-1F29-4F70-A535-8546DFB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CC00-5127-4F00-ACA3-115FEE3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4C5A-86E3-4AA0-AC51-A97C926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D015-FEC6-40FF-8A82-F178E778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9A61-A4B2-4289-96E7-0C2DB4BE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6947-F2E9-46B4-9BB7-2E98BC6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2244-4017-45FE-BD2F-3B52D6B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711A-8E00-4687-8FA8-1F4CBE8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40C2-0E2A-4A02-8A06-F6077A7F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A445-7A60-4917-815A-07E70A3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6B05-30D9-4584-8B31-A8E39A2D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789-7F42-4DD5-8606-5A4CA4F5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4E32-7371-4B0A-A886-9A5ECB9C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CC72-5BC1-4A5B-9FA3-8EAD4F31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0A23-35E4-496B-BA4A-3A75EE67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4B25-303C-437D-BF58-343D53B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BB82-B199-4D40-AB73-68E6DA5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1A9C0-2561-409A-8C0C-9C0C694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825F-A180-4290-9568-65355474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35B0-3824-4AFB-BBD6-F963D21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E11A-4A64-4940-9C9A-A045600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EDF4-C628-4CDB-9749-F8750B0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224-8910-4B96-9129-14FE78A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8E8F-C53B-43E4-8F8C-22C452F9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BE2A-2CC0-4FFB-9198-CBB5670B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2C61-5C25-4022-AED8-69E696C6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A107-499B-4CEC-B895-B5A4F24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2C6A-1FE0-4522-BA0F-A496A43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69BC-FDC9-4940-B20C-792F702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6772-E1E4-4C5A-BB75-A750472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4C76-8670-40EF-BC00-864F550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51D0-146D-4FEF-8317-4A646075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7CEE-BEAF-4A68-9515-08421AE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A68-516C-4854-8100-B4014A2A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5C08-D1E6-4650-A1B3-FC3ED2A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AFDC-6FB9-4A50-A4DA-72B7C11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82F2-F418-496B-BFC6-C97A4F98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4CA48-C679-433F-9835-2FBF6119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27A22-0017-45B8-B5B7-99947812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4A39-4500-4735-9F17-C0C7D2BD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A2BD-D9C5-4699-8F85-9480CFDE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B7B3-C16B-495A-A811-AC2DBAD2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9B063-E3AD-41FB-9536-E85E07CB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4BC1-A903-467A-96F1-3E49F1E2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93D-E70E-485E-AA0E-E5164849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25A5-5FA2-4320-B28F-45F2341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CE425-1E9E-4C30-86C2-A01E134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B605-04BD-455F-A199-3A0C680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34F78-0B65-4A3C-BB4C-E40454F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82E5-E4CE-437A-B74C-B811B7D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BFA44-F195-4162-9253-71AAC77B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9DCC-570B-4F25-8810-4FDF6250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DAC76-7F12-4166-8039-53E2CE9F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9325-48D0-4A99-B3BE-B44A1B3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3D837-8426-4CFF-B5FE-67B0B4D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BD8-AD9E-4649-89D9-3B6252D4A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5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5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6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4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7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3EB-D59C-4D26-8EC9-B79A627A9A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68E-59FD-4E04-9968-BE3737010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F363-9EBA-4394-987E-9931EDDF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12A2-9C56-4905-B6BE-CAB8A8EB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2FBF-BB91-4CA3-BF87-16AAFB70D1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7855-E572-44FB-B396-30AF6818D6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AAB-2ED9-431C-868F-84D94B5DA8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1C4-BABA-48B1-B13B-89ED8E8658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8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8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8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E67-8248-4173-8DB9-1BB93EB1CB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SSN00671A0000%5B1%5D.wav" TargetMode="External"/><Relationship Id="rId3" Type="http://schemas.microsoft.com/office/2007/relationships/media" Target="file:///tmp/home/.config/libreoffice/4/user/gallery/MSSN00671A0000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hanadistricts.com/news/?read=20173&amp;PHPSESSID=d601ecf12d72d95b025eb9305a73930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hana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Jon.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5400" y="228600"/>
            <a:ext cx="2286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880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utur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think it will still have a good and healthy life. Mostly because it is a better place to 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8229600" y="91440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7893" fill="hold"/>
                                        <p:tgtEl>
                                          <p:spTgt spid="9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c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ana is located below  Burkina Faso. To the right of cote d’lvoire. To the left of  T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924360" cy="41529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8610480" y="6705720"/>
            <a:ext cx="30492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5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556" fill="hold"/>
                                        <p:tgtEl>
                                          <p:spTgt spid="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867280" y="3862440"/>
            <a:ext cx="3276720" cy="269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28600" y="1905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hana’s population in 2005 was proven to be 21,946,000 people in this coun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2280" y="22860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8381880" y="678168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6396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hana’s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482, the Portuguese built a castle in Elmina. Their aim was to trade in gold, ivory and slaves. In 1481 King John II of Portugal sent Diego d'Azambuja to build this cast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is is when they fist discovered Ghana and the gold 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9480" y="446076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8839080" y="6629400"/>
            <a:ext cx="76320" cy="22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0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35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 of Afri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of the people of africa would be Queen Elizabeth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this would be important because she was the person to explore af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6477120" y="3600360"/>
            <a:ext cx="2857320" cy="325764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595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s of African (con’td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470 the gold coast was first seen by Portuguese. Soon after they were followed by the English in 1533 . Then the Dutch then Swedish in 100 years of 1500-1700. I think this is a good fact because it first made Ghana be s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POLITICS : It is not a debate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Some political analysts, who attended the first round of the Institute of Economic Affairs (IEA) Election 2008 Presidential Debate on Wednesday said it was more of a question an answer session than a debate.     posted: Thu, Oct 30 2008 . the kind of government is multi-party system .Legislative power is only granted on government and parliament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56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ad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hana’s best export’s coaco ,gold, timber, diamonds, and mangane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s best import’s are food and cloth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4572000" y="51055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ltur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RELIG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0% Christian, 15% Muslim, 25% traditional African religio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hana has the highest percentage of Christians in West Africa, but the belief in traditional animist religions is still extremely comm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6253200" y="5029200"/>
            <a:ext cx="2890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21:58Z</dcterms:created>
  <dc:creator>jonathangonzalez</dc:creator>
  <dc:description/>
  <dc:language>en-US</dc:language>
  <cp:lastModifiedBy>LCS_user</cp:lastModifiedBy>
  <dcterms:modified xsi:type="dcterms:W3CDTF">2008-11-07T16:07:46Z</dcterms:modified>
  <cp:revision>11</cp:revision>
  <dc:subject/>
  <dc:title>Ghana </dc:title>
</cp:coreProperties>
</file>